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728-BC54-4603-9E21-3D7EDB12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676-D637-4DD4-AEE3-60122C6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AF7-BDCD-46C9-884F-E25B054B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6C8-246D-4259-9EDF-5ACBB308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ED8-81C2-478F-93CE-27B7276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697-AFC2-492D-9270-1FEB72E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955-87F8-42C9-BFC5-B6549EEA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EEC-DC42-42D9-86F1-9322239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DDC-7E4E-49F3-A83F-D34B887A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2C4-772D-47DA-957A-2D76BB9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F96-4D92-4A0B-BEA2-26DE0ED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A42-D524-4B8E-A953-E8D9172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E2A-FF03-4880-9645-566D67018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01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7461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Экстримизм и патриот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12046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12045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716078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9715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flowers-pic330-330x220-17297"/>
          <p:cNvPicPr/>
          <p:nvPr/>
        </p:nvPicPr>
        <p:blipFill>
          <a:blip r:embed="rId1"/>
          <a:stretch/>
        </p:blipFill>
        <p:spPr>
          <a:xfrm>
            <a:off x="39600" y="39600"/>
            <a:ext cx="9104400" cy="6818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Теракт в Волгограде 21.10.2013: обнародовано видео с видеорегистратора (ВИДЕ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50920" y="404640"/>
            <a:ext cx="65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акт в Волгограде 21 октября - дело рук смерт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808adf10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Террористка-смертница взорвала автобус в Волгоград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20482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12048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12047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120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12046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2:44:18Z</dcterms:created>
  <dc:creator>Русский</dc:creator>
  <dc:description/>
  <dc:language>en-US</dc:language>
  <cp:lastModifiedBy>sch10-17</cp:lastModifiedBy>
  <dcterms:modified xsi:type="dcterms:W3CDTF">2025-09-15T04:28:02Z</dcterms:modified>
  <cp:revision>7</cp:revision>
  <dc:subject/>
  <dc:title>Слайд 1</dc:title>
</cp:coreProperties>
</file>